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drumroll.wav" ContentType="audio/x-wav"/>
  <Override PartName="/ppt/media/camera.wav" ContentType="audio/x-wav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7A11-164B-4801-A2B2-26193FB92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A6CB-8995-41B2-AD4D-1EA92566F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C449-4C30-47E5-BA0B-78DCA08FE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0E82-B148-4CD1-992F-98C64119E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E2CB-0FD6-4C45-B9C3-CDFF2ABA6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5449-83F0-4BEC-9868-F43EFC12B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2F4A-3E54-4504-9C9E-57BD2535A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6570-DCEA-40BE-8A57-A564D99EC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2465-04A3-480C-9ABC-F37223EEC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7055-D0E9-44CC-9993-7DC7ABD6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2894-9F1C-4AF6-AA25-D31114CB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8163-932F-48C5-ABB8-F546BEF3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9F7B7-E0FD-48F8-8D4A-96F3C4589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6.jpeg"/><Relationship Id="rId5" Type="http://schemas.openxmlformats.org/officeDocument/2006/relationships/audio" Target="../media/drumroll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sa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3600720" cy="2586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148360" y="2276640"/>
            <a:ext cx="3024000" cy="2706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99"/>
                </a:solidFill>
                <a:latin typeface="Arial"/>
              </a:rPr>
              <a:t>Collag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411280" y="3573360"/>
            <a:ext cx="1727280" cy="17272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716360" y="3645000"/>
            <a:ext cx="1973520" cy="176364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zra Jack Ke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95640" y="2060640"/>
            <a:ext cx="2664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Auth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95640" y="3429000"/>
            <a:ext cx="374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ff"/>
                </a:solidFill>
                <a:latin typeface="Arial"/>
              </a:rPr>
              <a:t>Illustrat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588000" y="1628640"/>
            <a:ext cx="1729080" cy="1729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924360" y="4365720"/>
            <a:ext cx="1727280" cy="1727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796000" y="4437000"/>
            <a:ext cx="1973160" cy="1763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826920" y="2349360"/>
            <a:ext cx="2880000" cy="236232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st Famous 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916360" y="1989000"/>
            <a:ext cx="3600360" cy="3222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lustrated 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85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Book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4360" y="2997360"/>
            <a:ext cx="2387520" cy="2149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348000" y="1628640"/>
            <a:ext cx="2449440" cy="2192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564000" y="4076640"/>
            <a:ext cx="2170080" cy="2095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6012000" y="2852640"/>
            <a:ext cx="2674800" cy="2194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cc00ff"/>
                </a:solidFill>
                <a:uFillTx/>
                <a:latin typeface="Arial"/>
              </a:rPr>
              <a:t>Kea</a:t>
            </a:r>
            <a:r>
              <a:rPr b="0" lang="en-US" sz="6000" spc="-1" strike="noStrike">
                <a:solidFill>
                  <a:srgbClr val="cc00ff"/>
                </a:solidFill>
                <a:latin typeface="Arial"/>
              </a:rPr>
              <a:t>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24360" y="2133720"/>
            <a:ext cx="1297080" cy="280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ff"/>
                </a:solidFill>
                <a:latin typeface="Arial"/>
              </a:rPr>
              <a:t>K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ats Webs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11280" y="314172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zra-jack-keats.org/home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14:19:20Z</dcterms:created>
  <dc:creator>Educational Technology</dc:creator>
  <dc:description/>
  <dc:language>en-US</dc:language>
  <cp:lastModifiedBy>Educational Technology</cp:lastModifiedBy>
  <dcterms:modified xsi:type="dcterms:W3CDTF">2008-01-23T16:33:06Z</dcterms:modified>
  <cp:revision>7</cp:revision>
  <dc:subject/>
  <dc:title>What is the same?</dc:title>
</cp:coreProperties>
</file>